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png" ContentType="image/png"/>
  <Override PartName="/ppt/media/image16.png" ContentType="image/png"/>
  <Override PartName="/ppt/media/image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5039-39B9-49EB-97B3-386449BF3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A3F9-9F90-4EA8-A426-494FF7EC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life/evolution/natural-selec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www.mun.ca/biology/scarr/Stabilizing_Selection_in_Huma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2C5B-BCA5-4FA8-8DCE-3EA46E5E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0996-A2AE-404B-9BC5-70777826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B6D8-BE06-4385-BC94-26735A0E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icturenice.com/gallery3/index.php/Animales_1366x768_wallpapers_hd_fondos_papel_tapiz/Female_peahen_observing_male_peacock_his_plumage_out_-Dave_Blackey_High_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0220-4A4D-40FD-A231-8B702E87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IIIE3Sexualselectio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CF4C-C634-45EC-B058-39AE7C8A9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3EA4-F340-4BFD-A184-CB66309B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3ED-08D7-4AB0-BCAC-B159F876C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D5E0-E897-4374-A2BB-32FD9250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PopGe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DA37-4BD3-45B6-B84A-C6572CA28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gardenofeaden.blogspot.ca/2011/10/cheeta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tahs severe bottleneck that reduced population to just 7 individuals about 10000 years ago.  Little genetic variability, so they are susceptible to disease &amp; have low reproductive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A6DE-B43F-4A4E-9852-6CB2EB28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Northern_Elephant_Seal,_San_Simeo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ern elephant seals were overhunted &amp; reduced to 20 individuals in the 18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B540-45DD-483B-80EF-948E587BF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reethinkerperspective.blogspot.ca/2012/07/how-natural-selection-sel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by chance, not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299E-128C-4042-8F55-BADFA3F1F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hetripletcode.com/tag/founder-effec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pulation (by chance alone) would have a different mix of alleles than the mainland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57AF-8994-46C8-A24F-03C0CBAC1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PopGe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B06B-74CE-4C9C-8CD0-65068502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cienceinschool.org/2010/issue14/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ce of malaria (left) &amp; sickle-cell anemia (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9EF-3DAC-4119-90EF-F268522E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A2F0-7A3E-4DDC-A09F-3790DA08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4769-CBCD-4F2D-AC7E-8CDBA0C85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Image from: http://science.howstuffworks.com/life/evolution/natural-selec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AE84-7534-46F6-9A85-6FD2097BA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thehimalayanpilgrimage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oxygen-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5BA9-E067-4DB7-B028-DF7C2E163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opsci.com/category/tags/knockout-m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of Wisconsin;  selected high-runners for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10 generations higher running distances &amp; average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3C8-C6A6-44C6-B9D1-0928CCE9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cknell.edu/babylab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weight just over 3 k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156-6214-476F-84AD-7C63B6B4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3A1-6255-4B40-891E-652E6C00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B9E-0D6A-4072-995A-B215A55F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0B1-DD9A-4542-B7C8-C6C21FAB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096-B30E-44EB-9AE7-FC98D7BB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2D6-E838-446A-BD85-D4F3FC8D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6A4-1D3F-4F46-BEC7-6AE6D350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BB2-B856-4398-B7D9-48CA7E43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546-9EF5-480E-8ED2-FF76838C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C55-115F-4CEF-8D9A-8A5A875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495-B62D-4AAC-84B6-2C2A4EB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758-D2D2-42A5-BA2C-4D942406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42AE-AA20-4CEC-AE8F-5F8CDFC9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j7GSu99Lm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relationshi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Stabilizing_Selection_on_birthweight.gif"/>
          <p:cNvPicPr/>
          <p:nvPr/>
        </p:nvPicPr>
        <p:blipFill>
          <a:blip r:embed="rId1"/>
          <a:srcRect l="-12957" t="0" r="-1295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mat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-versus-mal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Mate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eacockPair_EN-US1270559473"/>
          <p:cNvPicPr/>
          <p:nvPr/>
        </p:nvPicPr>
        <p:blipFill>
          <a:blip r:embed="rId1"/>
          <a:stretch/>
        </p:blipFill>
        <p:spPr>
          <a:xfrm>
            <a:off x="912960" y="1981080"/>
            <a:ext cx="731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-mal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lephantseals2"/>
          <p:cNvPicPr/>
          <p:nvPr/>
        </p:nvPicPr>
        <p:blipFill>
          <a:blip r:embed="rId1"/>
          <a:stretch/>
        </p:blipFill>
        <p:spPr>
          <a:xfrm>
            <a:off x="2719440" y="198108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 from the PBS Evolution series on sexual selection (uploaded to YouTu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4j7GSu99L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mulative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utorial 1 (p.330-3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ocular vision in pr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 dart 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meli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hifting of genetic makeup of a population (change in frequency of all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2" descr="beetles_mech3.gif"/>
          <p:cNvPicPr/>
          <p:nvPr/>
        </p:nvPicPr>
        <p:blipFill>
          <a:blip r:embed="rId1"/>
          <a:srcRect l="0" t="-61416" r="0" b="-6141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bottleneck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heetah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800px-Northern_Elephant_Seal,_San_Simeon2"/>
          <p:cNvPicPr/>
          <p:nvPr/>
        </p:nvPicPr>
        <p:blipFill>
          <a:blip r:embed="rId1"/>
          <a:stretch/>
        </p:blipFill>
        <p:spPr>
          <a:xfrm>
            <a:off x="1482840" y="1981080"/>
            <a:ext cx="617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not occur by ch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natural_selection"/>
          <p:cNvPicPr/>
          <p:nvPr/>
        </p:nvPicPr>
        <p:blipFill>
          <a:blip r:embed="rId1"/>
          <a:stretch/>
        </p:blipFill>
        <p:spPr>
          <a:xfrm>
            <a:off x="1844640" y="1676520"/>
            <a:ext cx="5378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er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ounder-effect"/>
          <p:cNvPicPr/>
          <p:nvPr/>
        </p:nvPicPr>
        <p:blipFill>
          <a:blip r:embed="rId1"/>
          <a:stretch/>
        </p:blipFill>
        <p:spPr>
          <a:xfrm>
            <a:off x="685800" y="2627280"/>
            <a:ext cx="77724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n small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driftmodel"/>
          <p:cNvPicPr/>
          <p:nvPr/>
        </p:nvPicPr>
        <p:blipFill>
          <a:blip r:embed="rId1"/>
          <a:srcRect l="3723" t="0" r="3723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equation describing relationships in allele frequ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 leading to 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population size (genetic dri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migration/Emigration (gene 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rizontal gen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ssue14evolution7_large"/>
          <p:cNvPicPr/>
          <p:nvPr/>
        </p:nvPicPr>
        <p:blipFill>
          <a:blip r:embed="rId1"/>
          <a:stretch/>
        </p:blipFill>
        <p:spPr>
          <a:xfrm>
            <a:off x="762120" y="2077920"/>
            <a:ext cx="76960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ing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iv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selection_modes"/>
          <p:cNvPicPr/>
          <p:nvPr/>
        </p:nvPicPr>
        <p:blipFill>
          <a:blip r:embed="rId1"/>
          <a:stretch/>
        </p:blipFill>
        <p:spPr>
          <a:xfrm>
            <a:off x="701640" y="609480"/>
            <a:ext cx="7740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natural-selection-hummingbi"/>
          <p:cNvPicPr/>
          <p:nvPr/>
        </p:nvPicPr>
        <p:blipFill>
          <a:blip r:embed="rId1"/>
          <a:stretch/>
        </p:blipFill>
        <p:spPr>
          <a:xfrm>
            <a:off x="1380960" y="1981080"/>
            <a:ext cx="638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etan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ibet Mountain Peaks"/>
          <p:cNvPicPr/>
          <p:nvPr/>
        </p:nvPicPr>
        <p:blipFill>
          <a:blip r:embed="rId1"/>
          <a:stretch/>
        </p:blipFill>
        <p:spPr>
          <a:xfrm>
            <a:off x="1865160" y="1981080"/>
            <a:ext cx="541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with m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amsterwheel"/>
          <p:cNvPicPr/>
          <p:nvPr/>
        </p:nvPicPr>
        <p:blipFill>
          <a:blip r:embed="rId1"/>
          <a:stretch/>
        </p:blipFill>
        <p:spPr>
          <a:xfrm>
            <a:off x="1830240" y="1981080"/>
            <a:ext cx="5483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ilizing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hreebabies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4:57:54Z</dcterms:created>
  <dc:creator>rubina khan</dc:creator>
  <dc:description/>
  <dc:language>en-US</dc:language>
  <cp:lastModifiedBy>rubina khan</cp:lastModifiedBy>
  <dcterms:modified xsi:type="dcterms:W3CDTF">2018-03-02T20:09:12Z</dcterms:modified>
  <cp:revision>45</cp:revision>
  <dc:subject/>
  <dc:title>PowerPoint Presentation</dc:title>
</cp:coreProperties>
</file>